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1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B13-1940-482E-8D73-2E6347AD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049-B90C-404A-B50A-0475FB46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BDB-3D55-4DBF-9197-1FD64015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DAA-481D-4031-ACCC-E2F78182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2614-51C1-48F3-A201-48FF0E2B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E5DA-B8C7-47AE-9C7A-7F9BC435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2A07-0977-4DC2-BF02-D8824AF9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7639-ABDD-4755-9485-2284327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2883-81CD-4A20-8CB3-68D00591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22A8-06DC-4403-8809-1BA84249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1BE9-1F93-4AE6-9609-D7B033E6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133-784F-401D-B833-11196C67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D374-925C-46DD-9239-F1959554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E848-67A6-4A48-8225-8D9B5F3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DFCF-6160-4F5A-8DF4-B13A5F7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DA2-2DC2-4152-9BB2-1E7B797F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D72C-3B5A-4526-9285-C3501DEB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532-505A-4C70-9002-8260A62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FDE-7051-4B74-95E8-BF3F79C9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70E-D396-41BD-AA44-FEC773C5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025-585D-4C23-98FD-C0C5C56E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FA6-994F-429F-A729-8FE947BD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D89-A30C-4E43-8444-C9690811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8FF-33CB-4AE8-9C57-479F95CC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4131-C8E0-4318-A584-93B3D6DB2A7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C24B-81EB-4BF0-A87A-3E6015970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ztpc.en.alibaba.com/product/50183059/50212248/Tables_Chairs_and_Stools/Patio_Furniture__Plastic_Chair__Outdoor_Furniture__Armchair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wards.com/wards/referral.asp?DMSIID=107&amp;show=prod_display1.asp&amp;product=84059&amp;PID=365&amp;CMB=8-365&amp;partner=0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tore.franswicker.com/bmonsetglmot.html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tore.franswicker.com/tifporset1.html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modern.com/p/35767.asp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vvsofa.en.alibaba.com/product/50072686/50332710/Modern_Metal_and_Glass_Furniture/Modern_Metal_and_Glass_Coffee_Table.html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forward.en.alibaba.com/product/50035261/50160765/Glass_Furniture/Glass_Furniture.html" TargetMode="External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Times New Roman"/>
              </a:rPr>
              <a:t>Furniture Construction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5.02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467480" y="48769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Dovetail joint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Used to fasten corner joints in drawers. Found in good-quality furniture. Can take strong pulls or strai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2590920" cy="244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2857320" cy="1571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875040" y="4191120"/>
            <a:ext cx="22399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Butt joint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weakest joint. One board is glued or nailed to another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37335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Corner Block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small pieces of wood attached between corner boards, reinforce &amp; support joints. Used in tables, chairs, upholstered furniture frames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9" name="" descr="Closeup images of glue blocks bracing corners on wooden furniture."/>
          <p:cNvPicPr/>
          <p:nvPr/>
        </p:nvPicPr>
        <p:blipFill>
          <a:blip r:embed="rId1"/>
          <a:stretch/>
        </p:blipFill>
        <p:spPr>
          <a:xfrm>
            <a:off x="3581280" y="4572000"/>
            <a:ext cx="5181840" cy="19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Tongue-and-groov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tongue is cut on one board and matching groove is cut on another. If done correctly, joint is invisible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2" name="" descr="Tongue and Groove Joint"/>
          <p:cNvPicPr/>
          <p:nvPr/>
        </p:nvPicPr>
        <p:blipFill>
          <a:blip r:embed="rId1"/>
          <a:stretch/>
        </p:blipFill>
        <p:spPr>
          <a:xfrm>
            <a:off x="4572000" y="3922560"/>
            <a:ext cx="354348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Mitered joint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2 edges are cut at a 45 degree angle and joined to form a square corner. Joint is then glued and sometimes reinforced with nails, dowels, a spline or glue block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Upholstered furnitur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hairs, sofas, and other pieces of padded furnitu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ll exposed surfaces are covered with fabric so all inner construction details are hidden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Good quality furniture has durable, well-tailored upholstery fabri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lastic Furniture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ess expensive than wo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ightweight, sturdy, easy to clea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ooks best in modern/contemporary setting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9" name="" descr="Conversion Products - company specialists in modern, outdoor, patio, home and garden furniture - Adirondack Chair"/>
          <p:cNvPicPr/>
          <p:nvPr/>
        </p:nvPicPr>
        <p:blipFill>
          <a:blip r:embed="rId1"/>
          <a:stretch/>
        </p:blipFill>
        <p:spPr>
          <a:xfrm>
            <a:off x="3276720" y="3809880"/>
            <a:ext cx="46479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lastic furnitur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2" name="" descr="Patio Furniture, Plastic Chair, Outdoor Furniture, Armchair (Chin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3000" y="3429000"/>
            <a:ext cx="2288880" cy="2362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 Plastic Furniture, Table, Childrens Furniture, Chair, Kids' Furniture"/>
          <p:cNvPicPr/>
          <p:nvPr/>
        </p:nvPicPr>
        <p:blipFill>
          <a:blip r:embed="rId3"/>
          <a:stretch/>
        </p:blipFill>
        <p:spPr>
          <a:xfrm>
            <a:off x="3124080" y="160020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plastic lumber furniture"/>
          <p:cNvPicPr/>
          <p:nvPr/>
        </p:nvPicPr>
        <p:blipFill>
          <a:blip r:embed="rId4"/>
          <a:stretch/>
        </p:blipFill>
        <p:spPr>
          <a:xfrm>
            <a:off x="2133720" y="4114800"/>
            <a:ext cx="285732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etal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opular as indoor and outdoor furnitu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rought iron, aluminum, chrome…often combined with wood, glass, &amp; fabri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77" name="" descr="Metal Bed 1"/>
          <p:cNvPicPr/>
          <p:nvPr/>
        </p:nvPicPr>
        <p:blipFill>
          <a:blip r:embed="rId1"/>
          <a:stretch/>
        </p:blipFill>
        <p:spPr>
          <a:xfrm>
            <a:off x="1371600" y="38862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84796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4067280" cy="3809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2362320"/>
            <a:ext cx="30477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ypes of Woo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ardwoods: come from deciduous trees (lose their leaves). Walnut, mahogany, pecan, cherry, maple, oak. Expensive, does not dent easil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oftwoods: come from coniferous or evergreen trees (do not shed leaves &amp; can have a cone). Cedar, redwood, pine, fir, spruce. Dents easily, grain is not as attractive as hardwoods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attan, Wicker, Bambo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ombines natural wood frames with woven stems or branch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att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de from stringy, tough stems of palm trees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Bend easily and are strong, works best in casual setting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7" name="" descr="&lt;b&gt;Monterey Set/5&lt;font color=&quot;red&quot;&gt;&lt;br&gt;Price: $945&lt;/font&gt;&lt;/b&g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19112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ick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de by weaving thin, flexible branches around a frame, can be varnished or painted, water resistant, durable, natural gloss, lightweigh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90" name="" descr="&lt;b&gt;Tiffany Porch Set/4&lt;br&gt;&lt;font color=&quot;black&quot;&gt;Price: $595&lt;/font&gt;&lt;/b&g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91120"/>
            <a:ext cx="43434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ambo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de from tall tropical grasses with hollow stems. Can be combined with ratta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93" name="" descr="#12"/>
          <p:cNvPicPr/>
          <p:nvPr/>
        </p:nvPicPr>
        <p:blipFill>
          <a:blip r:embed="rId1"/>
          <a:stretch/>
        </p:blipFill>
        <p:spPr>
          <a:xfrm>
            <a:off x="5029200" y="35053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#16"/>
          <p:cNvPicPr/>
          <p:nvPr/>
        </p:nvPicPr>
        <p:blipFill>
          <a:blip r:embed="rId2"/>
          <a:stretch/>
        </p:blipFill>
        <p:spPr>
          <a:xfrm>
            <a:off x="838080" y="3505320"/>
            <a:ext cx="327672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las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Usually combined with metal or wood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Good for tabletops and cabinet door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429000"/>
            <a:ext cx="190476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Modern Metal and Glass Coffee Tab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34290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Glass Furnitur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358128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rames, Springs, Cush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Frame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Upholstered furniture frames are usually made of solid wood or metal. Joints should be secured with screws and corner block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Spring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part of the inner construction. The type and number determine the quality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Coil spring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spiral shaped without padding and covering. Used in heavier furniture. Average chair has 9-12 springs per seat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Flat or zigzag spring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used with lightweight pieces of furniture and are flat, S-shaped springs that may have metal support strips banded across them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Offers firm comfort at a lower pri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ushions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Need to be proper siz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t snugly into furnitur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Give body and suppor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ually made of urethane foam or foam rubber. Down or feathers are not durabl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Loose fill can also be used for pillows. Will lose shap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n be molded into any size or shape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inish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Include stains, sealers, waxes and paints that protect and improve the appearance of the wood surfa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ater-based and oil-based stains bring out the natural beauty of wood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alers can be penetrating or on the surface of the wo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oo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Solid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all exposed parts of a piece of furniture is made from whole pieces of wood, usually $$$$, has a tendency to warp, swell, and crack or spli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Bonded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bonded by glue and pressure, includes veneered &amp; pressed wo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inishes con’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lastic sealers resists moistu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Wax is used to preserve the wood and gives an attractive look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aint is used to hide unattractive surfaces. Can also be used to enhance the look by being decorativ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ddddd"/>
                </a:solidFill>
                <a:uFillTx/>
                <a:latin typeface="Arial"/>
              </a:rPr>
              <a:t>Housing Decisions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 pages 343-354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ddddd"/>
                </a:solidFill>
                <a:uFillTx/>
                <a:latin typeface="Arial"/>
              </a:rPr>
              <a:t>Housing and Interiors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, pages 600-614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www.pierone.com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www.target.com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www.plowandhearth.com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www.wickerparadise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.com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www.furniturebrains.com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www.dixieline.com/woodjoint/woodjoints.htm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www.orinda.k12.ca.us/OIS/IT/wood-joints.htm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Copyright ©2007, ABCD, All rights reserved.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Veneered wood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or plywood: created by bonding </a:t>
            </a:r>
            <a:r>
              <a:rPr b="0" lang="en-US" sz="2900" spc="-1" strike="noStrike">
                <a:solidFill>
                  <a:srgbClr val="dddddd"/>
                </a:solidFill>
                <a:latin typeface="Arial"/>
              </a:rPr>
              <a:t>3,5,or 7 thin layers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of wood to one another, to a solid core, or pressed wood core. Fine wood is used on the outside and cheaper wood on inside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DV: Makes fragile wood stronge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is.Adv: adhesive that bonds veneer may not stick, causing veneer to loosen and chip or crack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Pressed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made of shavings, veneer scraps, chips, &amp; other small pieces of wood and is called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particleboar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, wafer board, composite boar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Used on parts of wood that do not show and can be covered with laminate/plastic covering for durabilit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ood Grain or patter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umber is cut to show off the patter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Stump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irregular grain formed by twisted and irregular growth of tree’s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root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Crotch wood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special grain caused by branches growing out from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trunk of tre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Burls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woody, flattened outgrowths on tree, unique and $$$$$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inished and Unfinished Woo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Solid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walnut: exposed wood is same throughout entire pie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alnu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veneer: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surface is covered with thin sheets of walnut wood while rest of piece is usually particle board or other inexpensive woo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alnu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finish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: has a finish (paint/varnish) whose color is same as walnu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ood Joi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Mortise-and –tenon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one of the strongest joints, glued tenon fits into mortise (hole), no nails/screws used. Legs of chair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4480" y="3962520"/>
            <a:ext cx="1981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Arial"/>
              </a:rPr>
              <a:t>Dowel joint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: small wood pegs that are glued into the holes of pieces of wood being joined together. Used as reinforcemen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7339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7:18:23Z</dcterms:created>
  <dc:creator>s.brooks</dc:creator>
  <dc:description/>
  <dc:language>en-US</dc:language>
  <cp:lastModifiedBy>s.brooks</cp:lastModifiedBy>
  <dcterms:modified xsi:type="dcterms:W3CDTF">2008-10-13T16:59:42Z</dcterms:modified>
  <cp:revision>31</cp:revision>
  <dc:subject/>
  <dc:title>Furniture Construction</dc:title>
</cp:coreProperties>
</file>